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C30-B9F6-4596-A9B7-724CD723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95DA-83CC-4115-A6A7-8B04A4EA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B6F-9030-41AB-B32D-9BF6E69D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249-C067-45EE-A3B6-3D0F3A55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5A6-B1F4-41AA-9511-7F793611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821-69E0-4221-98B5-E8C39E03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957-8045-46AA-898C-2CB2366B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A67-4A85-4858-ABD6-0704DAA1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65F-C952-4341-8BAB-26E3530A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CDE-BFF5-47A4-A14F-7687A4C4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A04F-6091-411A-A79D-3701AA52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746-E012-474B-A57C-63A73DD0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5E72-4A2C-474B-8764-C42E1CA72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468360" y="1484280"/>
            <a:ext cx="8393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TRAŽIVANJE POČETNOG STANJA POTREBA ZA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2071800"/>
            <a:ext cx="8001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až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avilo proceno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nog stanja potreba učenika za profesionalnom orijentacijo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jihovih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donesu adekvatnu odluku o svom daljem školovanju i budućem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to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osnovnih škola širom Srbije, obuhvaćenih prvim projektnim ciklusom: 14 MOŠ (sve MOŠ uključene u prvom ciklusu) i 11 BOŠ (slučajan uzora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itani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30 učenika sedmog (384)  i osmog razreda (5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procen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pitnik za učenike PO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embar 20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642960" y="1500120"/>
            <a:ext cx="8001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zvori primljenih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14240" y="2643120"/>
            <a:ext cx="8001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čno, mladi su se obavestili o budućem zanimanju iz 3 od mogućih 8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češć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dica i vršnjac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in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u to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i inform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: ps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olozi/pedagoz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i se bave zanimanjem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/instituci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ima se zanimanje obavl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od petine učenika učenika koristi bare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načaj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14240" y="221472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procenjuju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koji informisanost  i različiti izvori informacija imaju za odluku o obrazovanju i 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o procenj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pojedinih informac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kojim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ljno obavešte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u svesni značaja informacija o obrazovanju i zanimanjima koje se dobijaju 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nom kontaktu sa budućim školama i firm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ojima se data zanimanja obavlj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lasti rada i kvalitet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14240" y="2143080"/>
            <a:ext cx="80010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rada za koje su mladi zainteres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prosečno bira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 navedene 22 oblasti 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e razlike u popularnosti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- od 3% do 4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n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e razlik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opularnosti skoro svih obla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et odlučivanja uč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e smatr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i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spravne odluke o školovanju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potrebnih kor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đ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rtine i petine učenika nije sprem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donošenje odluke o budućem školovanju/zanimanj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 - Rodne raz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14240" y="2033640"/>
            <a:ext cx="8001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ormacije iz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e socijalne sredine i med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č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iz šire socijalne sred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ije značaja informis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dnosu na dečake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oren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prevazilažen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i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reotipa u oblasti zanimanja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l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proce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čivan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rofesiji i obraz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ovanje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čite oblast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je kod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raznovrs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 kod dečaka  - manja sloboda izbora i više društvenih ograničenja za devojč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14240" y="2033640"/>
            <a:ext cx="80010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pokaz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zaključ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značaju informisanja u oblastima o kojima imaju dovoljno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ju potrebu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ćenjem više različitih izvora informa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sebn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 i institucije u kojima se obavljaju zanim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koji se bave željenim zanimanj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za profesionalnu orijentaci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 za jednu petinu učenika 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uka za profesionalnu orijentaciju ključ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nformisane odluke o školovanju/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14240" y="203364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šće psihologa, pedagoga i nastavnika, kao i uključivanje drugih organizacija, preduzeća i škol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ofesionalnoj orijentaciji učenika n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aleka ne zadovoljava njihove potreb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 potrebna podrška da b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bodnije i samopouzdanije birali zanim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odgovaraju njihovim sposobnos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14:50:13Z</dcterms:created>
  <dc:creator>Jasna</dc:creator>
  <dc:description/>
  <dc:language>en-US</dc:language>
  <cp:lastModifiedBy>WINDOWS XP</cp:lastModifiedBy>
  <dcterms:modified xsi:type="dcterms:W3CDTF">2012-02-13T22:03:20Z</dcterms:modified>
  <cp:revision>36</cp:revision>
  <dc:subject/>
  <dc:title>Slide 1</dc:title>
</cp:coreProperties>
</file>